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16.png" ContentType="image/png"/>
  <Override PartName="/ppt/media/image11.png" ContentType="image/png"/>
  <Override PartName="/ppt/media/image36.wmf" ContentType="image/x-wmf"/>
  <Override PartName="/ppt/media/image6.wmf" ContentType="image/x-wmf"/>
  <Override PartName="/ppt/media/image32.png" ContentType="image/png"/>
  <Override PartName="/ppt/media/image35.wmf" ContentType="image/x-wmf"/>
  <Override PartName="/ppt/media/image1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D09333F-38C9-4A98-BD1F-F69BDFE61A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9381AA-3E4F-4E35-B634-EF3D608F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6A691C-0C29-4CE3-8200-C86B79F18F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D0BF165-87A5-43D4-B689-5F55C26842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E51D70-62BB-467F-A29B-F73861A849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4C138F6-3791-40E9-A4F2-7F53F9A5CA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2EE3450-D775-4588-82A8-3EC7496471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5F2B88-0AAD-480C-8228-55FEE49E6F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20D8F1-FF41-480A-A1F9-BC9A5A41AD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F3227F8-5D17-46F1-B45A-0A3DBF228D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8B45052-86EC-48C0-8637-038526122A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20E1826-A756-46CF-9018-FD3F858AAC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021D02-50B9-4019-9AA5-E0F04D13C0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65FFE1-1C4A-464D-A3F9-DC805B3190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3EE5297-EB3F-4E62-967C-4BA638CAB3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66CBD25-8585-45F2-A4A5-A0B210F80D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5AA7155-3E1A-4EE4-8E3E-1C0E5F4393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6E2B4CD-EBDC-4F0C-BCB9-DFED0426B7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11FD713-ABD1-4775-99B8-99184366AF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0BF43DF-874B-42E6-97B4-25EA800C06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C28379F-C31C-4DEF-AB13-DC5C88F6D6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3C846FB-7540-44F3-97F0-B922B6A8CF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4407F9-F28F-4D20-87D5-2C46C25A11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063CE30-DAD3-43EB-9178-984AF86948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B55CC9-32BC-4881-B2B3-6436F02FBD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FDDEE0E-6A6B-41F5-9CAB-5BD73E9714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E379A32-5FDF-4BC4-8261-1B5AC8EE0F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ECB9CC3-B67F-4796-8D48-57EB500BA7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70D9D9-5170-4318-94F7-8AE0179C31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44219B-3470-42F9-A44A-961810B2FD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EC9D744-9182-4878-A8F6-A2E4EE2C1E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8A0912A-8973-451E-8BEB-5F686451AC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4A8D245-F7FB-44ED-94FF-CA9AE54794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0583B92-5937-41F2-949B-FFC5AE6A74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C4FFFC-F5BF-4BD9-9EE0-7DE4940B4A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3E41D0F-CB99-428A-8112-C4E73CBFDD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F0B1C1E-EC4E-4F0F-A68D-2C6200E2DF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62308DB-5BA3-4087-8D53-7AC325581B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CB6B37B-40FD-44ED-B9A7-09224C427E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F182CED-B030-4F73-BB29-6AAC8E6CF3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2472813-E561-41A3-8D01-CD1F80C318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B0E7BF4-6462-4D5C-8BA3-1740B49953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C619F7-8658-4B02-AAF4-283CE6FAEA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D48DFEF-484A-4B13-BEE8-7FD54C8166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3C79A63-AF49-4EBE-B655-46FCA66439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C7765F4-A3CD-41D4-A1BD-6453EC2B23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384B658-3267-4100-8D39-7DD2E70B64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07AE818-CCE0-44EF-8712-321F99AAC0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9D2D522-31B5-4D1A-9BFE-E519AB9551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14D6A52-D9B3-499F-AF5E-3571C89DE3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2D0CEF0-7F47-482D-B6E9-9BB5A9BA78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1760D69-3069-4E8C-A77F-F0EE3A4FB0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03A-4BFF-488A-BD51-FF30DE1B04A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ABD-6EE3-4A2F-AC96-B4FBB6168CC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CDD4-98E9-49E0-8329-1F75ED21406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E390-AFD0-4955-A737-A3F96E55AC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7DE-12B2-4367-B0BA-78BAA7DB1A4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9905-0D89-462C-AD13-26B064D862A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5F8-DD75-4F58-ADB0-BF3E0CCC256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ADD7-75FE-4AE4-98D6-07069153936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34183E3A-B448-4AD8-AEC1-F138956AA0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28880" y="1965240"/>
            <a:ext cx="634176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223960" y="1957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c Process Flow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rograms or those that are not well understood may require an iterative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 the design is completed in one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odules are identified during the design, modules A and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each module is separately coded, compiled, and t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uses the PSP0 phases and two cycles of code-compile-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S9"/>
          <p:cNvPicPr/>
          <p:nvPr/>
        </p:nvPicPr>
        <p:blipFill>
          <a:blip r:embed="rId1"/>
          <a:stretch/>
        </p:blipFill>
        <p:spPr>
          <a:xfrm>
            <a:off x="4748040" y="179244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c Process Flow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more than two cycles and cycles can also include the design phase as in thi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ach cycle is focused on producing part of the program, e.g. Module A, Module B, Modul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size is a key factor for determining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e of code is too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may be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classes, methods, procedures, or functions are probably the right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determine what works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8" descr="S10"/>
          <p:cNvPicPr/>
          <p:nvPr/>
        </p:nvPicPr>
        <p:blipFill>
          <a:blip r:embed="rId1"/>
          <a:stretch/>
        </p:blipFill>
        <p:spPr>
          <a:xfrm>
            <a:off x="4851360" y="1743120"/>
            <a:ext cx="38671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Scr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rcRect l="2010" t="28210" r="4020" b="11059"/>
          <a:stretch/>
        </p:blipFill>
        <p:spPr>
          <a:xfrm>
            <a:off x="3684600" y="2637000"/>
            <a:ext cx="4835520" cy="307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scripts provide “expert-level” guidance on how to use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0" y="2625480"/>
            <a:ext cx="258120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one or two page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escrib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992160" y="2932200"/>
            <a:ext cx="41292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444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0 Script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78040" y="1562040"/>
            <a:ext cx="7764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:  Estimate the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:  Develop the product using your curr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mortem:  Complete the project plan summary with the time spent and defects found and injected in each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8884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0 Script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58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:  Design the program using your current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:  Implement the progra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:  Compile until defect-fr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:  Test the program and fix all defec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defects in the defect log and time per phase in the time lo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6040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rocess Scr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58600" y="1565280"/>
            <a:ext cx="7575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scripts guide you through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entry criteria before starting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the phase star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the phase steps and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defects as they are found and corr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exit criteria before ending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the phase en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the nex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ce yourself to use this paradigm until it becomes a hab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Measures and 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– track time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– record defects as they are found and fix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has four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Project Plan Summary – summarizes planned and actual time and defects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Time Recording Log – used to recor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Defect Recording Log – used to record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Defect Type Standard – used to define standard defect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tudent Workbook provides support for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ic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class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lso provides support for post-course use of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ing the PSP Student Work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older to hold the contents of the student 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ntents of the CD to this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Assignments M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Data M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Scripts an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spreadsheet STUn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6" descr=""/>
          <p:cNvPicPr/>
          <p:nvPr/>
        </p:nvPicPr>
        <p:blipFill>
          <a:blip r:embed="rId1"/>
          <a:stretch/>
        </p:blipFill>
        <p:spPr>
          <a:xfrm>
            <a:off x="4708440" y="1627200"/>
            <a:ext cx="38005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in the Fol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Assignments MDB – a folder containing backup copy of assignment data used to submit assignments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Course Materials – a folder containing the lectures, assignment kits and tutorials for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Data MDB – a folder containing a backup database where you can save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Scripts and Forms – a folder containing the PSP scripts and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Student Workbook – the PSP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notes – release notes for the current version of the PSP student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spreadsheet STUn.xls – a spreadsheet for submitting student data to your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PSP0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PSP0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0 for program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the 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the PSP Student Workbook you will need Microsoft Access 2002, service pack 3 or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3" descr=""/>
          <p:cNvPicPr/>
          <p:nvPr/>
        </p:nvPicPr>
        <p:blipFill>
          <a:blip r:embed="rId1"/>
          <a:stretch/>
        </p:blipFill>
        <p:spPr>
          <a:xfrm>
            <a:off x="1284120" y="3035160"/>
            <a:ext cx="2401920" cy="1216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2"/>
          <a:stretch/>
        </p:blipFill>
        <p:spPr>
          <a:xfrm>
            <a:off x="4800600" y="1654200"/>
            <a:ext cx="3887640" cy="4648320"/>
          </a:xfrm>
          <a:prstGeom prst="rect">
            <a:avLst/>
          </a:prstGeom>
          <a:ln w="0">
            <a:noFill/>
          </a:ln>
        </p:spPr>
      </p:pic>
      <p:sp>
        <p:nvSpPr>
          <p:cNvPr id="323" name="Line 16"/>
          <p:cNvSpPr/>
          <p:nvPr/>
        </p:nvSpPr>
        <p:spPr>
          <a:xfrm flipH="1">
            <a:off x="2532240" y="2687760"/>
            <a:ext cx="936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1812960" y="4405320"/>
            <a:ext cx="2803320" cy="1959120"/>
            <a:chOff x="1812960" y="4405320"/>
            <a:chExt cx="2803320" cy="1959120"/>
          </a:xfrm>
        </p:grpSpPr>
        <p:sp>
          <p:nvSpPr>
            <p:cNvPr id="325" name="Rectangle 15"/>
            <p:cNvSpPr/>
            <p:nvPr/>
          </p:nvSpPr>
          <p:spPr>
            <a:xfrm>
              <a:off x="1812960" y="4405320"/>
              <a:ext cx="2463840" cy="19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, open the PSP Student Workbook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it opens you will see the Welcome For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4324320" y="577692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the 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lcome has three buttons near the bottom of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your data… is used to import data from a previous version of the workbook when upd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… is used to update your student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projects… takes you to the ma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ontinue to projects… to create your student profile and open the ma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4" descr=""/>
          <p:cNvPicPr/>
          <p:nvPr/>
        </p:nvPicPr>
        <p:blipFill>
          <a:blip r:embed="rId1"/>
          <a:stretch/>
        </p:blipFill>
        <p:spPr>
          <a:xfrm>
            <a:off x="4800600" y="1654200"/>
            <a:ext cx="3887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Student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rcRect l="0" t="10613" r="0" b="0"/>
          <a:stretch/>
        </p:blipFill>
        <p:spPr>
          <a:xfrm>
            <a:off x="4792680" y="1693800"/>
            <a:ext cx="3762360" cy="41054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your organization o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the lead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questions under each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Finish…the main PSP Student Workbook form will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SP student workbook main form provides acces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/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511" t="11084" r="3766" b="4708"/>
          <a:stretch/>
        </p:blipFill>
        <p:spPr>
          <a:xfrm>
            <a:off x="3578400" y="2736720"/>
            <a:ext cx="5190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project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1"/>
          <a:stretch/>
        </p:blipFill>
        <p:spPr>
          <a:xfrm>
            <a:off x="4299120" y="1758960"/>
            <a:ext cx="4518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17720" y="1650600"/>
            <a:ext cx="388296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is form to save and restore data and structure to the backup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also use this form to submit assignment data to your instructor using one of two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data to the included STUn.XLS file and provide your instructor with a copy of this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assignment submission file for use with the SEI blended learning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also use this form to import data when upgrading to a newer version of the PSP Student Workboo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9" descr=""/>
          <p:cNvPicPr/>
          <p:nvPr/>
        </p:nvPicPr>
        <p:blipFill>
          <a:blip r:embed="rId1"/>
          <a:stretch/>
        </p:blipFill>
        <p:spPr>
          <a:xfrm>
            <a:off x="5433840" y="1709640"/>
            <a:ext cx="2364120" cy="4592880"/>
          </a:xfrm>
          <a:prstGeom prst="rect">
            <a:avLst/>
          </a:prstGeom>
          <a:ln w="0">
            <a:noFill/>
          </a:ln>
        </p:spPr>
      </p:pic>
      <p:sp>
        <p:nvSpPr>
          <p:cNvPr id="342" name="Line 15"/>
          <p:cNvSpPr/>
          <p:nvPr/>
        </p:nvSpPr>
        <p:spPr>
          <a:xfrm>
            <a:off x="4805280" y="2017800"/>
            <a:ext cx="397080" cy="22860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4889520" y="3836880"/>
            <a:ext cx="417600" cy="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 flipV="1">
            <a:off x="4844880" y="5322600"/>
            <a:ext cx="438480" cy="19836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Direc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"/>
          <p:cNvPicPr/>
          <p:nvPr/>
        </p:nvPicPr>
        <p:blipFill>
          <a:blip r:embed="rId1"/>
          <a:srcRect l="1457" t="7374" r="2614" b="7707"/>
          <a:stretch/>
        </p:blipFill>
        <p:spPr>
          <a:xfrm>
            <a:off x="3917880" y="1784520"/>
            <a:ext cx="459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1"/>
          <a:srcRect l="1878" t="7731" r="3803" b="5842"/>
          <a:stretch/>
        </p:blipFill>
        <p:spPr>
          <a:xfrm>
            <a:off x="4022640" y="1743120"/>
            <a:ext cx="4462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analyze you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tool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program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ny of the 42 hyperlinks to open the correspond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rcRect l="2665" t="6784" r="4197" b="7284"/>
          <a:stretch/>
        </p:blipFill>
        <p:spPr>
          <a:xfrm>
            <a:off x="4024440" y="1716120"/>
            <a:ext cx="4508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s/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open the word document(s) containing the PSP scripts an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"/>
          <p:cNvPicPr/>
          <p:nvPr/>
        </p:nvPicPr>
        <p:blipFill>
          <a:blip r:embed="rId1"/>
          <a:srcRect l="0" t="7284" r="3063" b="8733"/>
          <a:stretch/>
        </p:blipFill>
        <p:spPr>
          <a:xfrm>
            <a:off x="3844800" y="1760400"/>
            <a:ext cx="46389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Beg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no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for writing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process for learning about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’s the process equivalent of a code s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orks so well for some students that they can use it on the job, but that’s not its intended pur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you’ve completed the course 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your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your experience and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ilor the PSP to meet your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open the 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rcRect l="1878" t="7284" r="3063" b="7231"/>
          <a:stretch/>
        </p:blipFill>
        <p:spPr>
          <a:xfrm>
            <a:off x="3954600" y="1746360"/>
            <a:ext cx="45291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 to the Project Director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eight assignments in the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ssignment is a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an assignment 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orrespond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orms provided to pla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it using the time log and defect log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a postmortem when the projec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i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4761000" y="175896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 to the Project Director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directory display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check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rse assignment projects must be completed i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s of these projects should not b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56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95"/>
                </a:solidFill>
                <a:latin typeface="Arial"/>
              </a:rPr>
              <a:t>Mark them complete only when you’re absolutely certain that you’ve entered all data correc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4730760" y="181944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ting Started: Opening a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project, Pro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ecord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 field in th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Open Projec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5" descr=""/>
          <p:cNvPicPr/>
          <p:nvPr/>
        </p:nvPicPr>
        <p:blipFill>
          <a:blip r:embed="rId1"/>
          <a:srcRect l="0" t="7767" r="4199" b="32337"/>
          <a:stretch/>
        </p:blipFill>
        <p:spPr>
          <a:xfrm>
            <a:off x="4633920" y="1569960"/>
            <a:ext cx="3994200" cy="19684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7"/>
          <p:cNvSpPr/>
          <p:nvPr/>
        </p:nvSpPr>
        <p:spPr>
          <a:xfrm>
            <a:off x="4444920" y="3495600"/>
            <a:ext cx="1200240" cy="20628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AutoShape 22"/>
          <p:cNvCxnSpPr>
            <a:stCxn id="369" idx="1"/>
            <a:endCxn id="371" idx="0"/>
          </p:cNvCxnSpPr>
          <p:nvPr/>
        </p:nvCxnSpPr>
        <p:spPr>
          <a:xfrm flipH="1" rot="10800000">
            <a:off x="4443840" y="2615400"/>
            <a:ext cx="337320" cy="983520"/>
          </a:xfrm>
          <a:prstGeom prst="curvedConnector5">
            <a:avLst>
              <a:gd name="adj1" fmla="val -67841"/>
              <a:gd name="adj2" fmla="val 49981"/>
              <a:gd name="adj3" fmla="val -678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Rectangle 23"/>
          <p:cNvSpPr/>
          <p:nvPr/>
        </p:nvSpPr>
        <p:spPr>
          <a:xfrm>
            <a:off x="6248520" y="3438360"/>
            <a:ext cx="463320" cy="20664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AutoShape 25"/>
          <p:cNvCxnSpPr>
            <a:stCxn id="372" idx="1"/>
            <a:endCxn id="374" idx="0"/>
          </p:cNvCxnSpPr>
          <p:nvPr/>
        </p:nvCxnSpPr>
        <p:spPr>
          <a:xfrm rot="10800000">
            <a:off x="5123880" y="2748960"/>
            <a:ext cx="1124640" cy="792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AutoShape 29"/>
          <p:cNvSpPr/>
          <p:nvPr/>
        </p:nvSpPr>
        <p:spPr>
          <a:xfrm>
            <a:off x="4781520" y="2571840"/>
            <a:ext cx="88920" cy="8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0"/>
          <p:cNvSpPr/>
          <p:nvPr/>
        </p:nvSpPr>
        <p:spPr>
          <a:xfrm>
            <a:off x="5079960" y="266076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7446960" y="3425760"/>
            <a:ext cx="1012680" cy="20628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6378480" y="242244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33"/>
          <p:cNvCxnSpPr>
            <a:stCxn id="375" idx="1"/>
            <a:endCxn id="376" idx="0"/>
          </p:cNvCxnSpPr>
          <p:nvPr/>
        </p:nvCxnSpPr>
        <p:spPr>
          <a:xfrm rot="10800000">
            <a:off x="6422400" y="2510640"/>
            <a:ext cx="1024560" cy="1018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8" name="Rectangle 34"/>
          <p:cNvSpPr/>
          <p:nvPr/>
        </p:nvSpPr>
        <p:spPr>
          <a:xfrm>
            <a:off x="1022400" y="3857760"/>
            <a:ext cx="363060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next field in form…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ior field in form… &lt;shift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next subform within a form… &lt;ctrl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ior subform within a form… &lt;ctrl&gt;&lt;shift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field contents when selected… &lt;d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 delete field… &lt;es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urrent date…&lt;ctrl&gt;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urrent time… &lt;ctrl&gt;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opy of field from same field in previous record… &lt;ctrl&gt;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4941720" y="3857760"/>
            <a:ext cx="363096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record… click record selector and &lt;del&gt; or use provided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ed record… an arrow in the 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ing record or starting new record… a pencil in the 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 edit or new record… hit esc until pencil dis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ing a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4799160" y="1677960"/>
            <a:ext cx="3630600" cy="2543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SP uses historical data as an aid to planning, you will learn more about this during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data are data from completed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open a project, a summary snapshot of this data is created and stored with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data on earlier projects will not affect a later project after it has been ope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513040" y="4352760"/>
            <a:ext cx="363060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: The Replan Project button will recalculate the historical data for the selected project using data from all projects that were completed before the selected project sta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6572160" y="2502000"/>
            <a:ext cx="160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Form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2" descr=""/>
          <p:cNvPicPr/>
          <p:nvPr/>
        </p:nvPicPr>
        <p:blipFill>
          <a:blip r:embed="rId1"/>
          <a:srcRect l="2405" t="11819" r="47330" b="14339"/>
          <a:stretch/>
        </p:blipFill>
        <p:spPr>
          <a:xfrm>
            <a:off x="4305240" y="1521000"/>
            <a:ext cx="4378320" cy="4824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1709280"/>
            <a:ext cx="314172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PSP0 Project Plan Sum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pen the other PSP0 forms click PSP0 Forms… on the PSP0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5" descr=""/>
          <p:cNvPicPr/>
          <p:nvPr/>
        </p:nvPicPr>
        <p:blipFill>
          <a:blip r:embed="rId2"/>
          <a:srcRect l="38490" t="25107" r="48189" b="63610"/>
          <a:stretch/>
        </p:blipFill>
        <p:spPr>
          <a:xfrm>
            <a:off x="1233360" y="3441600"/>
            <a:ext cx="2370240" cy="15066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6"/>
          <p:cNvSpPr/>
          <p:nvPr/>
        </p:nvSpPr>
        <p:spPr>
          <a:xfrm>
            <a:off x="1047600" y="5108400"/>
            <a:ext cx="298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orm to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Typ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Form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1049400" y="1600200"/>
            <a:ext cx="3630600" cy="3355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419800" y="1709640"/>
            <a:ext cx="2392200" cy="2219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tretch/>
        </p:blipFill>
        <p:spPr>
          <a:xfrm>
            <a:off x="3029040" y="3249720"/>
            <a:ext cx="33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Time Recording Lo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1"/>
          <a:srcRect l="0" t="14249" r="570" b="54088"/>
          <a:stretch/>
        </p:blipFill>
        <p:spPr>
          <a:xfrm>
            <a:off x="1117440" y="3927600"/>
            <a:ext cx="7334280" cy="22510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30160" y="1709280"/>
            <a:ext cx="7413480" cy="2027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: Select the phase on which you were wo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: Enter the date and time you started working. Double click to enter the current date and time or type &lt;ctrl&gt;;&lt;space&gt;&lt;ctrl&gt;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.: Enter any interruption time in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Time Recording Lo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50120" cy="3378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: Enter the date and time you stop working. Double click to enter the current date an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ta Time: The delta time is calculat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:  Use to describe any interruption, the task you were doing or anything else that significantly affects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rcRect l="0" t="13657" r="570" b="54359"/>
          <a:stretch/>
        </p:blipFill>
        <p:spPr>
          <a:xfrm>
            <a:off x="1120680" y="4157640"/>
            <a:ext cx="726624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cording Lo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:  Select the def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Enter the date the defect was found. Double-click to enter the current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jected:  Select or enter the phase during which you judge the defect was inj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Removed:  Enter the phase during which you found and fixed the de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is a simple, defined, personal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current design and development methods to produce a small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time and defect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summary rep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cording Lo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time:  Enter the time that you took both to find and fix the defect.  You may time it exactly, or use your best ju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defect:  If this defect was injected while fixing another defect, enter the number of that de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:  Enter explanation of what the defect was (not the symptom, but the defect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Type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1"/>
          <a:srcRect l="0" t="6098" r="0" b="71631"/>
          <a:stretch/>
        </p:blipFill>
        <p:spPr>
          <a:xfrm>
            <a:off x="1015920" y="3984480"/>
            <a:ext cx="7283520" cy="2217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 type standard provides a general set of defect catego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you may add items or replace this standard with your own, it is generally wise to stick with these simple definitions until you have data to guide your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838080" y="55627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87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3193920" cy="887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best estimate of the total time that the developmen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9" descr=""/>
          <p:cNvPicPr/>
          <p:nvPr/>
        </p:nvPicPr>
        <p:blipFill>
          <a:blip r:embed="rId1"/>
          <a:srcRect l="0" t="10853" r="9551" b="4288"/>
          <a:stretch/>
        </p:blipFill>
        <p:spPr>
          <a:xfrm>
            <a:off x="4417920" y="1652760"/>
            <a:ext cx="4029120" cy="4811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"/>
          <p:cNvPicPr/>
          <p:nvPr/>
        </p:nvPicPr>
        <p:blipFill>
          <a:blip r:embed="rId2"/>
          <a:srcRect l="3975" t="46697" r="68124" b="50489"/>
          <a:stretch/>
        </p:blipFill>
        <p:spPr>
          <a:xfrm>
            <a:off x="1100160" y="2724120"/>
            <a:ext cx="3046320" cy="392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4"/>
          <p:cNvSpPr/>
          <p:nvPr/>
        </p:nvSpPr>
        <p:spPr>
          <a:xfrm>
            <a:off x="1096920" y="3340080"/>
            <a:ext cx="312120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items are calcul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 injected and removed i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%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lan Summary Up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version 20061007, all fields that the student enters data in are formatted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1"/>
          <a:srcRect l="4747" t="47352" r="42304" b="15388"/>
          <a:stretch/>
        </p:blipFill>
        <p:spPr>
          <a:xfrm>
            <a:off x="5114880" y="1743120"/>
            <a:ext cx="3328920" cy="1806480"/>
          </a:xfrm>
          <a:prstGeom prst="rect">
            <a:avLst/>
          </a:prstGeom>
          <a:ln w="0">
            <a:noFill/>
          </a:ln>
        </p:spPr>
      </p:pic>
      <p:sp>
        <p:nvSpPr>
          <p:cNvPr id="418" name="Line 8"/>
          <p:cNvSpPr/>
          <p:nvPr/>
        </p:nvSpPr>
        <p:spPr>
          <a:xfrm>
            <a:off x="4692600" y="2481120"/>
            <a:ext cx="1727280" cy="82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a PSP Project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2" descr=""/>
          <p:cNvPicPr/>
          <p:nvPr/>
        </p:nvPicPr>
        <p:blipFill>
          <a:blip r:embed="rId1"/>
          <a:srcRect l="0" t="7451" r="3368" b="45714"/>
          <a:stretch/>
        </p:blipFill>
        <p:spPr>
          <a:xfrm>
            <a:off x="914400" y="3201840"/>
            <a:ext cx="7405560" cy="28227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roject, e.g. Assignme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date in the completed fields or click the completed checkbox to enter today’s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a PSP Project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tes on completing a proje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ject’s plan is based on historical data from prior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roject is first opened, it takes a snapshot of the current historical data for use in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se data are in error, the plan will be i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limited data available in the course, projects are prevented from being opened until the prior project i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still do your part and make sure that the project data are complete and self-consistent before marking a project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’re not sure that your data are right, don’t guess…check the text or ask an instru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ommon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are common errors students m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tracking time in planning and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pping phases or executing phases out of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itting some defects found in compile or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getting to record the measured actual size of programs developed (PSP1.x and abo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ing phases with activity, e.g. counting time spent re-designing or re-coding during test as design time or coding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xt few slides address some specific problems with time and defect trac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Fix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fix time is often misunderst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the time taken both to find and fix the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05    run compiler on p1a.c, “line 23 - type mismatc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06    run editor on p1a.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5    change declaration on line 6 from integer to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6    run compiler on p1a.c, “no erro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: What is the defect fix tim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: 10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hase Inj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jected phase for a defect depends on the phase the program is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finds a major logic error in his program during test. He has to redesign and code part of his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What phase is Tom’s program 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finds a defect in the new code he has writ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In what PSP phase was the defect injec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3" descr="S32"/>
          <p:cNvPicPr/>
          <p:nvPr/>
        </p:nvPicPr>
        <p:blipFill>
          <a:blip r:embed="rId1"/>
          <a:stretch/>
        </p:blipFill>
        <p:spPr>
          <a:xfrm>
            <a:off x="5162400" y="1697040"/>
            <a:ext cx="3027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in the Cyclic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 program part identifier in the notes field on time log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similar annotation to defect log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“Test” as the phase removed when defects are found in a previously tested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finds and fixes an interface error in part A of his program while coding part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: In what PSP phase was this defect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2" descr="S33"/>
          <p:cNvPicPr/>
          <p:nvPr/>
        </p:nvPicPr>
        <p:blipFill>
          <a:blip r:embed="rId1"/>
          <a:stretch/>
        </p:blipFill>
        <p:spPr>
          <a:xfrm>
            <a:off x="4843440" y="180180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for PSP0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basic measurements in the software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 minimal changes to your person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H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and record data on your process as you work, not afterwards.  If you forget, promptly make your best gu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cise and accu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time in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every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using your own data to manage your process; gather data that is worthy of your tr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ing PSP0, your principal objective is to learn to gather and report accurate and complete data on your work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n, make your best effort to follow the PSP process scripts and instru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Phas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0 has six ph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– produces a plan for developing the program defined by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– produces a design specification for the program defined by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– transforms the design specification into programming language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4" descr="S5"/>
          <p:cNvPicPr/>
          <p:nvPr/>
        </p:nvPicPr>
        <p:blipFill>
          <a:blip r:embed="rId1"/>
          <a:stretch/>
        </p:blipFill>
        <p:spPr>
          <a:xfrm>
            <a:off x="6067440" y="2454120"/>
            <a:ext cx="95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Phas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– translates the programming language statements into executabl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– verifies that the executable code satisfies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mortem – summarizes and analyzes the project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6" descr="S6"/>
          <p:cNvPicPr/>
          <p:nvPr/>
        </p:nvPicPr>
        <p:blipFill>
          <a:blip r:embed="rId1"/>
          <a:stretch/>
        </p:blipFill>
        <p:spPr>
          <a:xfrm>
            <a:off x="6210360" y="1886040"/>
            <a:ext cx="1409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SP looks like a waterfall process but it’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ase order is determined by the dependencies betwe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test the code before it’s compi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compile the code before it’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use the design if it’s produced after the code i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’s no reason to make a plan after you’re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…start here with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5187960" y="1793880"/>
            <a:ext cx="24606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6707160" y="5324400"/>
            <a:ext cx="914400" cy="457200"/>
            <a:chOff x="6707160" y="5324400"/>
            <a:chExt cx="914400" cy="457200"/>
          </a:xfrm>
        </p:grpSpPr>
        <p:sp>
          <p:nvSpPr>
            <p:cNvPr id="266" name="Freeform 29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0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32"/>
          <p:cNvSpPr/>
          <p:nvPr/>
        </p:nvSpPr>
        <p:spPr>
          <a:xfrm>
            <a:off x="6950160" y="543240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5"/>
          <p:cNvGrpSpPr/>
          <p:nvPr/>
        </p:nvGrpSpPr>
        <p:grpSpPr>
          <a:xfrm>
            <a:off x="6708600" y="4443480"/>
            <a:ext cx="914400" cy="457200"/>
            <a:chOff x="6708600" y="4443480"/>
            <a:chExt cx="914400" cy="457200"/>
          </a:xfrm>
        </p:grpSpPr>
        <p:sp>
          <p:nvSpPr>
            <p:cNvPr id="270" name="Freeform 33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36"/>
          <p:cNvSpPr/>
          <p:nvPr/>
        </p:nvSpPr>
        <p:spPr>
          <a:xfrm>
            <a:off x="6828120" y="4551480"/>
            <a:ext cx="7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9"/>
          <p:cNvGrpSpPr/>
          <p:nvPr/>
        </p:nvGrpSpPr>
        <p:grpSpPr>
          <a:xfrm>
            <a:off x="6707160" y="3564000"/>
            <a:ext cx="914400" cy="457200"/>
            <a:chOff x="6707160" y="3564000"/>
            <a:chExt cx="914400" cy="457200"/>
          </a:xfrm>
        </p:grpSpPr>
        <p:sp>
          <p:nvSpPr>
            <p:cNvPr id="274" name="Freeform 37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8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40"/>
          <p:cNvSpPr/>
          <p:nvPr/>
        </p:nvSpPr>
        <p:spPr>
          <a:xfrm>
            <a:off x="6910560" y="3670200"/>
            <a:ext cx="57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3"/>
          <p:cNvGrpSpPr/>
          <p:nvPr/>
        </p:nvGrpSpPr>
        <p:grpSpPr>
          <a:xfrm>
            <a:off x="6708600" y="2684520"/>
            <a:ext cx="914400" cy="457200"/>
            <a:chOff x="6708600" y="2684520"/>
            <a:chExt cx="914400" cy="457200"/>
          </a:xfrm>
        </p:grpSpPr>
        <p:sp>
          <p:nvSpPr>
            <p:cNvPr id="278" name="Freeform 41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2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44"/>
          <p:cNvSpPr/>
          <p:nvPr/>
        </p:nvSpPr>
        <p:spPr>
          <a:xfrm>
            <a:off x="6767280" y="2792520"/>
            <a:ext cx="87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7"/>
          <p:cNvGrpSpPr/>
          <p:nvPr/>
        </p:nvGrpSpPr>
        <p:grpSpPr>
          <a:xfrm>
            <a:off x="6708600" y="1806480"/>
            <a:ext cx="914400" cy="457200"/>
            <a:chOff x="6708600" y="1806480"/>
            <a:chExt cx="914400" cy="457200"/>
          </a:xfrm>
        </p:grpSpPr>
        <p:sp>
          <p:nvSpPr>
            <p:cNvPr id="282" name="Freeform 45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6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48"/>
          <p:cNvSpPr/>
          <p:nvPr/>
        </p:nvSpPr>
        <p:spPr>
          <a:xfrm>
            <a:off x="6956640" y="1913040"/>
            <a:ext cx="48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9"/>
          <p:cNvSpPr/>
          <p:nvPr/>
        </p:nvSpPr>
        <p:spPr>
          <a:xfrm>
            <a:off x="7128000" y="4913280"/>
            <a:ext cx="75960" cy="405000"/>
          </a:xfrm>
          <a:custGeom>
            <a:avLst/>
            <a:gdLst/>
            <a:ahLst/>
            <a:rect l="l" t="t" r="r" b="b"/>
            <a:pathLst>
              <a:path w="200" h="1063">
                <a:moveTo>
                  <a:pt x="80" y="1046"/>
                </a:moveTo>
                <a:lnTo>
                  <a:pt x="83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1"/>
                  <a:pt x="117" y="158"/>
                  <a:pt x="117" y="167"/>
                </a:cubicBezTo>
                <a:lnTo>
                  <a:pt x="113" y="1046"/>
                </a:lnTo>
                <a:cubicBezTo>
                  <a:pt x="113" y="1056"/>
                  <a:pt x="106" y="1063"/>
                  <a:pt x="97" y="1063"/>
                </a:cubicBezTo>
                <a:cubicBezTo>
                  <a:pt x="87" y="1063"/>
                  <a:pt x="80" y="1055"/>
                  <a:pt x="80" y="1046"/>
                </a:cubicBezTo>
                <a:close/>
                <a:moveTo>
                  <a:pt x="0" y="200"/>
                </a:moveTo>
                <a:lnTo>
                  <a:pt x="101" y="0"/>
                </a:lnTo>
                <a:lnTo>
                  <a:pt x="200" y="201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50"/>
          <p:cNvSpPr/>
          <p:nvPr/>
        </p:nvSpPr>
        <p:spPr>
          <a:xfrm>
            <a:off x="7126200" y="4033800"/>
            <a:ext cx="76320" cy="4032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7" y="1042"/>
                </a:moveTo>
                <a:lnTo>
                  <a:pt x="84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0"/>
                  <a:pt x="117" y="158"/>
                  <a:pt x="117" y="167"/>
                </a:cubicBezTo>
                <a:lnTo>
                  <a:pt x="120" y="1042"/>
                </a:lnTo>
                <a:cubicBezTo>
                  <a:pt x="121" y="1051"/>
                  <a:pt x="113" y="1058"/>
                  <a:pt x="104" y="1058"/>
                </a:cubicBezTo>
                <a:cubicBezTo>
                  <a:pt x="95" y="1059"/>
                  <a:pt x="87" y="1051"/>
                  <a:pt x="87" y="1042"/>
                </a:cubicBezTo>
                <a:close/>
                <a:moveTo>
                  <a:pt x="0" y="201"/>
                </a:moveTo>
                <a:lnTo>
                  <a:pt x="100" y="0"/>
                </a:lnTo>
                <a:lnTo>
                  <a:pt x="200" y="200"/>
                </a:lnTo>
                <a:lnTo>
                  <a:pt x="0" y="201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1"/>
          <p:cNvSpPr/>
          <p:nvPr/>
        </p:nvSpPr>
        <p:spPr>
          <a:xfrm>
            <a:off x="7128000" y="3156120"/>
            <a:ext cx="75960" cy="401400"/>
          </a:xfrm>
          <a:custGeom>
            <a:avLst/>
            <a:gdLst/>
            <a:ahLst/>
            <a:rect l="l" t="t" r="r" b="b"/>
            <a:pathLst>
              <a:path w="200" h="1058">
                <a:moveTo>
                  <a:pt x="80" y="1041"/>
                </a:moveTo>
                <a:lnTo>
                  <a:pt x="83" y="166"/>
                </a:lnTo>
                <a:cubicBezTo>
                  <a:pt x="84" y="157"/>
                  <a:pt x="91" y="150"/>
                  <a:pt x="100" y="150"/>
                </a:cubicBezTo>
                <a:cubicBezTo>
                  <a:pt x="109" y="150"/>
                  <a:pt x="117" y="157"/>
                  <a:pt x="117" y="167"/>
                </a:cubicBezTo>
                <a:lnTo>
                  <a:pt x="113" y="1042"/>
                </a:lnTo>
                <a:cubicBezTo>
                  <a:pt x="113" y="1051"/>
                  <a:pt x="106" y="1058"/>
                  <a:pt x="97" y="1058"/>
                </a:cubicBezTo>
                <a:cubicBezTo>
                  <a:pt x="87" y="1058"/>
                  <a:pt x="80" y="1051"/>
                  <a:pt x="80" y="1041"/>
                </a:cubicBezTo>
                <a:close/>
                <a:moveTo>
                  <a:pt x="0" y="199"/>
                </a:moveTo>
                <a:lnTo>
                  <a:pt x="101" y="0"/>
                </a:lnTo>
                <a:lnTo>
                  <a:pt x="200" y="200"/>
                </a:lnTo>
                <a:lnTo>
                  <a:pt x="0" y="199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2"/>
          <p:cNvSpPr/>
          <p:nvPr/>
        </p:nvSpPr>
        <p:spPr>
          <a:xfrm>
            <a:off x="7128000" y="2274840"/>
            <a:ext cx="75960" cy="4050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3" y="1042"/>
                </a:moveTo>
                <a:lnTo>
                  <a:pt x="83" y="167"/>
                </a:lnTo>
                <a:cubicBezTo>
                  <a:pt x="83" y="158"/>
                  <a:pt x="91" y="150"/>
                  <a:pt x="100" y="150"/>
                </a:cubicBezTo>
                <a:cubicBezTo>
                  <a:pt x="109" y="150"/>
                  <a:pt x="116" y="158"/>
                  <a:pt x="116" y="167"/>
                </a:cubicBezTo>
                <a:lnTo>
                  <a:pt x="116" y="1042"/>
                </a:lnTo>
                <a:cubicBezTo>
                  <a:pt x="116" y="1051"/>
                  <a:pt x="109" y="1059"/>
                  <a:pt x="100" y="1059"/>
                </a:cubicBezTo>
                <a:cubicBezTo>
                  <a:pt x="91" y="1059"/>
                  <a:pt x="83" y="1051"/>
                  <a:pt x="83" y="1042"/>
                </a:cubicBezTo>
                <a:close/>
                <a:moveTo>
                  <a:pt x="0" y="200"/>
                </a:moveTo>
                <a:lnTo>
                  <a:pt x="100" y="0"/>
                </a:lnTo>
                <a:lnTo>
                  <a:pt x="200" y="200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6"/>
          <p:cNvSpPr/>
          <p:nvPr/>
        </p:nvSpPr>
        <p:spPr>
          <a:xfrm flipV="1">
            <a:off x="4538520" y="5564160"/>
            <a:ext cx="207972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grams are small or well understood, you can execute the phases i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ll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all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the coded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 the project data during the postmor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6" descr="S8"/>
          <p:cNvPicPr/>
          <p:nvPr/>
        </p:nvPicPr>
        <p:blipFill>
          <a:blip r:embed="rId1"/>
          <a:stretch/>
        </p:blipFill>
        <p:spPr>
          <a:xfrm>
            <a:off x="5141880" y="1779480"/>
            <a:ext cx="31273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10Z</dcterms:modified>
  <cp:revision>164</cp:revision>
  <dc:subject/>
  <dc:title>No Slide Title</dc:title>
</cp:coreProperties>
</file>